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8.jpeg" ContentType="image/jpeg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855-1194-4CBA-B19B-1E646D59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A29-5CD9-4E17-8BAE-0C12ECF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408-E937-4B6B-9BED-761CC5DF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0D0-5C23-47D0-A0EF-6AEE2EF9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FCD-9EF2-4C45-8A6D-0E5AF7E1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892-904C-4FE7-8AE6-ECBE6D17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81A-8CE6-48EE-A0D5-BC99B836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594-B04E-4C28-A576-B470D5B3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63F-89D2-460B-B1F2-2D736DDA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5D3-95FA-4E1A-ABCE-15EDE127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311-7037-458B-8C16-DDC6EBB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0E5-3403-4D8D-AF08-A5D31C2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4317-C221-4855-94EC-4DA9252E5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Математический </a:t>
            </a:r>
            <a:br>
              <a:rPr sz="8000"/>
            </a:b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калейдоскоп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j0290682"/>
          <p:cNvPicPr/>
          <p:nvPr/>
        </p:nvPicPr>
        <p:blipFill>
          <a:blip r:embed="rId1"/>
          <a:stretch/>
        </p:blipFill>
        <p:spPr>
          <a:xfrm>
            <a:off x="1042920" y="4149720"/>
            <a:ext cx="292896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51068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 хозяйством попа справлялось 10 работников. Каждый работник в день съедал каравай хлеба. Поп принял на работу Балду и прогнал лишних работников. Если Балда работает за семерых, а ест за четверых, сосчитайте, сколько караваев хлеба экономил поп ежеднев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Весёлые </a:t>
            </a:r>
            <a:br>
              <a:rPr sz="7200"/>
            </a:b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масте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H00526_"/>
          <p:cNvPicPr/>
          <p:nvPr/>
        </p:nvPicPr>
        <p:blipFill>
          <a:blip r:embed="rId1"/>
          <a:stretch/>
        </p:blipFill>
        <p:spPr>
          <a:xfrm>
            <a:off x="5435640" y="549360"/>
            <a:ext cx="3359160" cy="2457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TN00211_"/>
          <p:cNvPicPr/>
          <p:nvPr/>
        </p:nvPicPr>
        <p:blipFill>
          <a:blip r:embed="rId2"/>
          <a:stretch/>
        </p:blipFill>
        <p:spPr>
          <a:xfrm>
            <a:off x="1116000" y="4724280"/>
            <a:ext cx="37735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7451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Математику уже затем учить надо, что она ум в порядок приводит.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Евклид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new_pa5"/>
          <p:cNvPicPr/>
          <p:nvPr/>
        </p:nvPicPr>
        <p:blipFill>
          <a:blip r:embed="rId1"/>
          <a:stretch/>
        </p:blipFill>
        <p:spPr>
          <a:xfrm>
            <a:off x="7097760" y="260280"/>
            <a:ext cx="147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27236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мет математики настолько серьёзен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полезно не упускать случая, делать его немного занимательным…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Паска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tambov.fio.ru/vjpusk/vjp047/rabot/05/new_pa1.jpg"/>
          <p:cNvPicPr/>
          <p:nvPr/>
        </p:nvPicPr>
        <p:blipFill>
          <a:blip r:embed="rId1"/>
          <a:stretch/>
        </p:blipFill>
        <p:spPr>
          <a:xfrm>
            <a:off x="6804000" y="189000"/>
            <a:ext cx="20588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j0199330"/>
          <p:cNvPicPr/>
          <p:nvPr/>
        </p:nvPicPr>
        <p:blipFill>
          <a:blip r:embed="rId1"/>
          <a:stretch/>
        </p:blipFill>
        <p:spPr>
          <a:xfrm>
            <a:off x="1042920" y="3357720"/>
            <a:ext cx="4392720" cy="277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0338458"/>
          <p:cNvPicPr/>
          <p:nvPr/>
        </p:nvPicPr>
        <p:blipFill>
          <a:blip r:embed="rId2"/>
          <a:stretch/>
        </p:blipFill>
        <p:spPr>
          <a:xfrm>
            <a:off x="6588000" y="765000"/>
            <a:ext cx="18129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В стране чис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d05092_"/>
          <p:cNvPicPr/>
          <p:nvPr/>
        </p:nvPicPr>
        <p:blipFill>
          <a:blip r:embed="rId1"/>
          <a:stretch/>
        </p:blipFill>
        <p:spPr>
          <a:xfrm>
            <a:off x="2268360" y="2349360"/>
            <a:ext cx="453708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mage2"/>
          <p:cNvPicPr/>
          <p:nvPr/>
        </p:nvPicPr>
        <p:blipFill>
          <a:blip r:embed="rId1"/>
          <a:stretch/>
        </p:blipFill>
        <p:spPr>
          <a:xfrm>
            <a:off x="826920" y="2492280"/>
            <a:ext cx="7604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В стране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геометр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290652"/>
          <p:cNvPicPr/>
          <p:nvPr/>
        </p:nvPicPr>
        <p:blipFill>
          <a:blip r:embed="rId1"/>
          <a:stretch/>
        </p:blipFill>
        <p:spPr>
          <a:xfrm>
            <a:off x="5364000" y="3213000"/>
            <a:ext cx="29084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835280" y="1989000"/>
            <a:ext cx="6481800" cy="25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835280" y="328464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1835280" y="1988640"/>
            <a:ext cx="3241440" cy="25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5076720" y="1989000"/>
            <a:ext cx="3240360" cy="25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1835280" y="1989000"/>
            <a:ext cx="3097080" cy="25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V="1">
            <a:off x="4859280" y="1989000"/>
            <a:ext cx="345780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96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Comic Sans MS"/>
              </a:rPr>
              <a:t>Математика </a:t>
            </a:r>
            <a:br>
              <a:rPr sz="5500"/>
            </a:br>
            <a:r>
              <a:rPr b="0" lang="ru-RU" sz="5500" spc="-1" strike="noStrike">
                <a:solidFill>
                  <a:srgbClr val="ff0000"/>
                </a:solidFill>
                <a:latin typeface="Comic Sans MS"/>
              </a:rPr>
              <a:t>и сказки…</a:t>
            </a:r>
            <a:br>
              <a:rPr sz="5500"/>
            </a:br>
            <a:r>
              <a:rPr b="0" lang="ru-RU" sz="5500" spc="-1" strike="noStrike">
                <a:solidFill>
                  <a:srgbClr val="ff0000"/>
                </a:solidFill>
                <a:latin typeface="Comic Sans MS"/>
              </a:rPr>
              <a:t>Ну и чудеса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сказ"/>
          <p:cNvPicPr/>
          <p:nvPr/>
        </p:nvPicPr>
        <p:blipFill>
          <a:blip r:embed="rId1"/>
          <a:stretch/>
        </p:blipFill>
        <p:spPr>
          <a:xfrm>
            <a:off x="6012000" y="333360"/>
            <a:ext cx="208728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каз2"/>
          <p:cNvPicPr/>
          <p:nvPr/>
        </p:nvPicPr>
        <p:blipFill>
          <a:blip r:embed="rId2"/>
          <a:stretch/>
        </p:blipFill>
        <p:spPr>
          <a:xfrm>
            <a:off x="755640" y="4076640"/>
            <a:ext cx="2085840" cy="256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j0290709"/>
          <p:cNvPicPr/>
          <p:nvPr/>
        </p:nvPicPr>
        <p:blipFill>
          <a:blip r:embed="rId3"/>
          <a:stretch/>
        </p:blipFill>
        <p:spPr>
          <a:xfrm>
            <a:off x="6659640" y="4365720"/>
            <a:ext cx="203184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AJ6ACBGCA6NXLZUCAFYPMN2CA4WPO35CARRX6HTCAZTWXNNCAVN7F2WCA1GE1XICAG0EP9ACA8JEQ44CAJFSNRHCADE0IMKCASDMABXCAMUYT5WCA01DZEYCA53YAKYCABMA3NOCAFOCQJICA5P31UXCA5IMSU6"/>
          <p:cNvPicPr/>
          <p:nvPr/>
        </p:nvPicPr>
        <p:blipFill>
          <a:blip r:embed="rId1"/>
          <a:stretch/>
        </p:blipFill>
        <p:spPr>
          <a:xfrm>
            <a:off x="4500720" y="3429000"/>
            <a:ext cx="3814560" cy="2577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omic Sans MS"/>
              </a:rPr>
              <a:t>А.С.Пушкин </a:t>
            </a: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Comic Sans MS"/>
              </a:rPr>
              <a:t>«Сказка о попе </a:t>
            </a: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Comic Sans MS"/>
              </a:rPr>
              <a:t>и работнике его Балде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3:01:45Z</dcterms:created>
  <dc:creator>Formoza</dc:creator>
  <dc:description/>
  <dc:language>en-US</dc:language>
  <cp:lastModifiedBy>K208</cp:lastModifiedBy>
  <dcterms:modified xsi:type="dcterms:W3CDTF">2022-02-14T16:36:11Z</dcterms:modified>
  <cp:revision>7</cp:revision>
  <dc:subject/>
  <dc:title>Слайд 1</dc:title>
</cp:coreProperties>
</file>